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CD1-F805-45DC-80AE-B7505ED3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507-55A0-475D-A1C2-30F4B964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18F-3BA6-4691-8F3F-6EBD1A69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EE7-AFC6-456B-ACB3-79706B7D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85D-714B-4986-831C-1D28D794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025-AABF-4542-AF45-69258307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A50-48B1-4F1D-A496-A160B6B9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D12-9D47-4483-8F38-7739E647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98E-2CA1-4A8C-8C98-29576B0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C48-D3F1-4C29-BA56-91B5810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81A-AE2E-4733-B93F-F7872610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791-B9B5-46CA-AE34-22E2B968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1F14-F15A-4FA4-904F-8233C1476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rded Dra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opic is bearded Dragons. Beardies are common pets and are very doc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L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Bearded li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ies originally come from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very cute, but when there mad they can be sc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 should know, I'm one of the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osmo"/>
          <p:cNvPicPr/>
          <p:nvPr/>
        </p:nvPicPr>
        <p:blipFill>
          <a:blip r:embed="rId1"/>
          <a:stretch/>
        </p:blipFill>
        <p:spPr>
          <a:xfrm>
            <a:off x="5105520" y="1981080"/>
            <a:ext cx="3657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rded Dragons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ed dragons eat veggies such as kale, squash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eat bugs (EW!!) such as crickets, wax worms, super worms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C900154188[1]"/>
          <p:cNvPicPr/>
          <p:nvPr/>
        </p:nvPicPr>
        <p:blipFill>
          <a:blip r:embed="rId1"/>
          <a:stretch/>
        </p:blipFill>
        <p:spPr>
          <a:xfrm>
            <a:off x="5402160" y="1828800"/>
            <a:ext cx="2675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ology of 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ded dragon feces is the size of chihuahua p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white stuff? That's 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te is  their p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mushy 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4" descr=""/>
          <p:cNvPicPr/>
          <p:nvPr/>
        </p:nvPicPr>
        <p:blipFill>
          <a:blip r:embed="rId1"/>
          <a:srcRect l="48051" t="32052" r="29310" b="37359"/>
          <a:stretch/>
        </p:blipFill>
        <p:spPr>
          <a:xfrm>
            <a:off x="5105520" y="2133720"/>
            <a:ext cx="3306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bearded dragon typed this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58Z</dcterms:created>
  <dc:creator>Yellow Springs Exempted Village School District</dc:creator>
  <dc:description/>
  <dc:language>en-US</dc:language>
  <cp:lastModifiedBy>Mommy</cp:lastModifiedBy>
  <dcterms:modified xsi:type="dcterms:W3CDTF">2011-11-18T01:33:16Z</dcterms:modified>
  <cp:revision>20</cp:revision>
  <dc:subject/>
  <dc:title>Bearded Dragon’s</dc:title>
</cp:coreProperties>
</file>